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8B1-B945-4F47-9A4C-E5DF86ED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A61-D129-4C68-B807-5832EEC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71C-B6E8-4350-BFDB-8C29FF00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88A-E128-46A8-9269-3566CB0A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6D3-AACE-4D35-BBBC-77504A70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693-BB5A-40BA-82C3-FA9B3E3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873-3A28-420C-8E2A-93C7922F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0E7-F2C3-405C-AE8B-72156782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4A5-BFEA-417E-8A10-3A707DA2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C3D-90E9-4FEF-A7B7-82BFFEB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A56-3A68-4743-920B-308DA34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29C-BD49-4162-B84B-1FA50695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E5F7-FC7C-4758-A4EC-3F3668AC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b/bd/Flag_of_Cuba.svg/800px-Flag_of_Cuba.svg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a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P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86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untry in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276720"/>
            <a:ext cx="3200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me in Spa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Rebublica de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667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me min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aul C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43160" y="1085760"/>
            <a:ext cx="28576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muni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//www.misscubala.com/cuban_graphics/cuban_flag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666880" y="2819520"/>
            <a:ext cx="35719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uba size and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:42,803 sq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11,423,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ity: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tary Unit: Cuban P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s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: Mulat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7548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50:24Z</dcterms:created>
  <dc:creator>poolea</dc:creator>
  <dc:description/>
  <dc:language>en-US</dc:language>
  <cp:lastModifiedBy>poolea</cp:lastModifiedBy>
  <dcterms:modified xsi:type="dcterms:W3CDTF">2008-11-24T19:58:09Z</dcterms:modified>
  <cp:revision>3</cp:revision>
  <dc:subject/>
  <dc:title>CUBA</dc:title>
</cp:coreProperties>
</file>